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760-F02D-409D-8FEB-78A78157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512-7A14-415B-B0F0-DFC17790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CA5-9EEC-460F-866A-0E7B4EAC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0BC-1B7A-4CCB-A02B-BE1F70A8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F181-C566-4F63-BCF4-2DFC0900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CF42-1891-4042-9825-B9BC2334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6549-8285-4274-8157-0DB59162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DD4B-DD76-437B-BB39-6CFF8C99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C85E-6D21-45E1-BCCA-A0CC2B58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C7A7-085F-48C5-9E37-6B026BFF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3B6B-46BA-4BD1-AF53-878088F4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11D-D4CB-4DFF-A04C-F0E03EE5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9420-6B1B-4CAF-83F4-4A3D74C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78A7-086B-4997-8F9B-C2CBDAC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8E2D-8612-423B-8832-E99D4B88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C82C-91E1-4016-A2AA-EE632095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5308-0E64-426B-A0F5-4CCFD69A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B08-8D7B-4929-BC75-01EEA7D0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59C-7A95-48D3-83EC-E3450C7F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341-EAF7-4799-B276-4DDCD370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498-91AD-4863-86D5-BBAE3820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A56-4D26-4493-B775-D836B377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407-B44C-4D4F-965A-6DFE8B06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8E1-1339-45BA-9479-0F6CF460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245B-DF60-4171-A9DB-07EA837CE616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5270-6CFC-4E07-A52E-746E1C182C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lish-Sept. 1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333600" cy="4438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762120" y="2448000"/>
            <a:ext cx="3593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mework stor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ne/M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he 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tch Cli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questions with partn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mewo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like the south better then the north, however if I had to travel east, I would go to new york city. The capitol of the united states from 1785 to 1790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ar:century:: cent:___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av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cus on word choice (ton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lin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Once upon a midnight drea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are 3 things you think of when you hear the wor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rear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s to think abou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two words are repeated over and ove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o was Lenor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happened to he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the bird real, or a figment of the man’s imaginatio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would Poe choose a rave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-R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-Aud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-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-Top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e-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udience-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at-Poem 10 li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pic-Why he is bothering the ma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cus on tone, amusing or creep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46:14Z</dcterms:created>
  <dc:creator>Angie</dc:creator>
  <dc:description/>
  <dc:language>en-US</dc:language>
  <cp:lastModifiedBy>Angie McCall</cp:lastModifiedBy>
  <dcterms:modified xsi:type="dcterms:W3CDTF">2012-09-11T19:57:40Z</dcterms:modified>
  <cp:revision>15</cp:revision>
  <dc:subject/>
  <dc:title>English Exciting Day 4</dc:title>
</cp:coreProperties>
</file>